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7E53-D309-4A6F-9BBA-9D920D63B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15FC-09C2-4FDE-BB4C-E4FEE5CBE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D7F12-7E0A-4022-919A-643E49E9D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C508-61F1-4F29-A600-0F802DDCB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6454-8B1F-4984-A726-817438787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3976-63C4-4FD3-AA71-BACAF94D88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60786-7706-4F6E-8BA1-357FD1E88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3C8FF-B185-4F9F-8617-1168DF1FB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5C50E-F5FD-4B48-BB5D-330D52F43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B9EE-8701-4605-B0F8-311C4B5B8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8F8DF-58DA-4B11-9E01-C52A4C7AB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844A-5E10-4E8C-941C-C9F51C83C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D685-01CB-42E7-97C4-8A291F1DD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A08FB-5EE8-4CC9-B95D-F62C5D059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C461-8532-4A12-BE08-CA446913FD4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66960" y="64213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7440" y="65008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cmcguid.htm" TargetMode="External"/><Relationship Id="rId2" Type="http://schemas.openxmlformats.org/officeDocument/2006/relationships/hyperlink" Target="http://www.utsystem.edu/OGC/IntellectualProperty/copypol2.htm" TargetMode="External"/><Relationship Id="rId3" Type="http://schemas.openxmlformats.org/officeDocument/2006/relationships/hyperlink" Target="http://www.benedict.com/" TargetMode="External"/><Relationship Id="rId4" Type="http://schemas.openxmlformats.org/officeDocument/2006/relationships/hyperlink" Target="http://www.utsystem.edu/OGC/IntellectualProperty/faculty.htm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empletons.com/brad/copymyths.html" TargetMode="External"/><Relationship Id="rId2" Type="http://schemas.openxmlformats.org/officeDocument/2006/relationships/hyperlink" Target="http://www.duhaime.org/diction.htm" TargetMode="External"/><Relationship Id="rId3" Type="http://schemas.openxmlformats.org/officeDocument/2006/relationships/hyperlink" Target="http://www.copyright.cornell.edu/training/Hirtle_Public_Domain.htm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opypol2.htm#course" TargetMode="External"/><Relationship Id="rId2" Type="http://schemas.openxmlformats.org/officeDocument/2006/relationships/hyperlink" Target="http://www.utsystem.edu/OGC/IntellectualProperty/imagguid.htm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fast.org.uk/" TargetMode="External"/><Relationship Id="rId2" Type="http://schemas.openxmlformats.org/officeDocument/2006/relationships/hyperlink" Target="http://www.utsystem.edu/OGC/IntellectualProperty/mono2.htm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Haosul Copyright-ului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ubTitle"/>
          </p:nvPr>
        </p:nvSpPr>
        <p:spPr>
          <a:xfrm>
            <a:off x="91404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n ghid educa</a:t>
            </a:r>
            <a:r>
              <a:rPr b="0" lang="ro-RO" sz="40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onal de utilizare a dreptului de auto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zentarea a fost creat</a:t>
            </a:r>
            <a:r>
              <a:rPr b="0" lang="ro-RO" sz="1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pentru cursu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Atribuiri 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ş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i recuno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ş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tii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nţ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Numi</a:t>
            </a:r>
            <a:r>
              <a:rPr b="0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i sursel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af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i semnul de copyright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©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66cc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Verdana"/>
              </a:rPr>
              <a:t>Numirea surselo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- d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o descriere bibliografi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omple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u inform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ile care sunt disponibil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incluzand autorul, titlul,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pografia,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ocul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data ti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rii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66cc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ccff"/>
                </a:solidFill>
                <a:latin typeface="Verdana"/>
              </a:rPr>
              <a:t>Afi</a:t>
            </a:r>
            <a:r>
              <a:rPr b="0" lang="ro-RO" sz="1800" spc="-1" strike="noStrike">
                <a:solidFill>
                  <a:srgbClr val="66ccff"/>
                </a:solidFill>
                <a:latin typeface="Verdana"/>
              </a:rPr>
              <a:t>ş</a:t>
            </a:r>
            <a:r>
              <a:rPr b="0" lang="fr-FR" sz="1800" spc="-1" strike="noStrike">
                <a:solidFill>
                  <a:srgbClr val="66ccff"/>
                </a:solidFill>
                <a:latin typeface="Verdana"/>
              </a:rPr>
              <a:t>ati semnul de copyright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:-sub poze adaug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 inform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i despre d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orul copyrightului(anul primei apar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i,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umele d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orului dreptului de autor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</a:t>
            </a:r>
            <a:r>
              <a:rPr b="0" lang="ro-RO" sz="20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pl</a:t>
            </a:r>
            <a:r>
              <a:rPr b="0" lang="ro-RO" sz="20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© 2001 Company/Person’s Na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4305-CB0F-4F08-A13B-8250278D97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0720" y="228240"/>
            <a:ext cx="86932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Folosire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a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 ulterioar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 dincolo de folosirea legal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Da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exis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posibilitatea ca un proiect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fie 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s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di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(de exemplu publicat pe internet): ob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n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 permisiunea 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d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l cre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, de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astept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emple de scrisor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misiune sunt disponibile pe Curriculum Resource CD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lder-ul Resource, Copyright Resour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risor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misiun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rii dreptului de aut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risor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misiun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de a publica 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le elevil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n exemplu de scrisoar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  folosi  acest cur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6232-EF1F-4048-8636-4E18B087AF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5760" y="1371600"/>
            <a:ext cx="82375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fatur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eti ca acestea sunt sfaturi, nu leg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Cu toate acestea, cu 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 t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de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rtezi mai mult de aceste sfaturi,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cu a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 mai mult a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a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sa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fi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 afara “folosirii legal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E09F-8115-49A7-B665-40E1D118E7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r despre softwar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ca nu ai permisiunea d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rului dreptului de autor, atunc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e ilegal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uri o lice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un singur utilizator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o folos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mai multe calculatoare sau un serv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ownloadezi softuri cu drept de autor de p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tern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prumu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lii tale softul pe care l-ai procurat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alculatorul 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 de aca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1AEA-77E2-45D6-95DF-F34C08B1FD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400" y="34286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Copyright and Fair U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itional resources to help you and your students understand and follow copyright law and fair use guidelines are located in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sources, Copyright Resourc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Educational Multimedi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pared by the Educational Multimedia Fair Use Guidelines Development Committee, July 17, 1996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cmcguid.htm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Of Copyrighted Materials” by Georgia Harper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copypol2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Basics” by the U.S. Copyright Office www.copyright.gov/circs/circ1.htm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Copyright Website” by Benedict O’Mahoney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benedict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Law in the Electronic Environment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utsystem.edu/OGC/IntellectualProperty/faculty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CED93-B005-466A-A155-5678256E54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 Big Myths about Copyright Explained” by Brad Templeton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empletons.com/brad/copymyths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haime's Legal Dictionary” by Lloyd Duhaim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duhaime.org/diction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Term and the Public Domain in the United States” by Peter B. Hirtle, Cornell Institute for Digital Collec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cornell.edu/training/Hirtle_Public_Domain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Digitizing And Using Others' Works In Multimedia Materials For Educational Purpos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 by Georgia Harper, University of Texas www.utsystem.edu/ogc/intellectualproperty/copypol2.htm#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EA1E3-F9BF-4D55-892D-37E093B7C4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Coursepack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opypol2.htm#cour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Proposal For Educational Fair Use Guidelines For Digital Images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imagguid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 of Links to Other Copyright Sites by Georgia Harper, University of Texas www.utsystem.edu/OGC/IntellectualProperty/offsite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Multimedia” by 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Education www.intel.com/education/newtotech/fair_use_multimedia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66CD6-6EE3-43B7-82DF-E8C24471EE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formation on 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ct Sheet on School Software Use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pubs/SchoolSoftwareUse.pd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gital Anarchy: Part One of an Analysis of Software Piracy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David Laprad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ww.avault.com/articles/getarticle.asp?name=warez1&amp;page=1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Federation Against Software Theft (FAST)” (United Kingdom organization)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fast.org.u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ti-Piracy FAQ” 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faq.asp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ermissible Copying of Software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mono2.htm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5FF7-71C1-41F5-B618-36A45C47D2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Utilizarea acestei prezent</a:t>
            </a:r>
            <a:r>
              <a:rPr b="1" lang="ro-RO" sz="2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ceasta prezentare  poate fi utilizat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n scopuri non-profit , educa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onale 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 apar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e firmei  Inte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CC84-A5D3-408E-9E38-CD35687CE9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 este copyrightul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reptul exclusiv de a produce si reproduce, de a reprezenta in public sau de a publica o opera originala artistic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sau literal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. Aproape orice creat privat 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 original dupa  este protejat,indiferent dac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are o 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iin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re sau nu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7F8E7-81FE-42CF-82EE-4C31DC4471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66960" y="64213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E3303-ECE6-44A3-BA50-B71EF0F3FD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Itemi care nu sunt proteja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ţ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i: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emple de itemi care nu sunt protej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de legea copyrightulu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care nu au fost scrise sau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regist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dei, metode, descoperiri care se disting dintr-o descriere, explic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e sau ilustr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constituit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intregime din inform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i commune( de ex : calendare standard, carte de telefoane 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temi din domeniul public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joritatea materialelor guvernamentale ale US(unii itemi cre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de antreprenori pt guvern pot fi protej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ap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99FF-58BB-4435-8654-D51CE62AAE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Clauza folosirii legal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losirea legal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este o parte a legii copyrightulu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US. Permite oamenilor sa foloseasca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opieze 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protejate da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unt folosit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iti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entar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ţ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urs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l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ercet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8249-FCAF-4CA3-AAAB-3840D0C6E3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4 factori 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 care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ajut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 la determinarea folosirii legal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375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Scopul 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ş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i caracterul folosirii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inclusiv dac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folosirea este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e natu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comercial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n scopuri educative nonprof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oate fi folosit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 scopuri educa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onale, nu doar intr-un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ediu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Natura lucr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rii protej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 folosirea legal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se aplic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mai pu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 luc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lor creative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 compara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e cu cele bazate pe fapte din natu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Marimea par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ii folosit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 raport cu lucrarea protejat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- folosirea doar a ceea ce este necesar, nu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i a “miezului” luc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4.   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Efectul folosirii asupra poten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ialei pie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e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a luc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ii protejate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- copierea nu trebuie s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afecteze pia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a luc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ii protejate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   culegeri de probleme,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tareste mult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potriva  folosirii lega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7B6D5-8606-48ED-BFDC-51B6CC072B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Ghidul folosirii lega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air Use Guidelines for Educational Multimedia “ a fost creat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 oferi suport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priv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folosirii lega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Cu toate acestea : - nu este un document legal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,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ste doar o interpretare a legi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 aplica doar educatorilor care produc multimed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5B175-7FF7-4A41-9F54-71451F0AB9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Ghid p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entru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 studen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ţ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ude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educatorii au ghiduri sepa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Studen</a:t>
            </a:r>
            <a:r>
              <a:rPr b="0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ii pot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corpora po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uni din 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protejate 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d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realizeaz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ropriile proiecte educ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onale multimedia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un anumit cu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ezenta  propriile proiecte la cursul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are au fost cre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e proiectel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propriile portofolii ca exemple ale muncii academic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copuri personale ulterioare cum ar fi servicii sau interviur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l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EB8C-D83B-477D-86B1-B7076DE721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Ghid pt educator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Educatorii po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corpora po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uni din 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protejate 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d  realizeaz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roiecte educ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onale multimedia care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v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ajutorul pred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e proiectele pe termen nedefinit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urm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arele scopu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 le prezenta colegilor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ca exemeple la confer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le r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 portofoli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uz personal cum ar fi promo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i sau  interviur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jobu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foloseas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proiectel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predare pe o perioad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d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la 2 ani dupa prima folosire cu o cla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losirea du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ceas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ioad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 timp necesi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misiunea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iecare po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une proteja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corpora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CA04-9951-45D7-B00C-E9FD0696F2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37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Sfaturi p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entru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 a r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â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ne 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î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n permisiunea legal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5760" y="1371600"/>
          <a:ext cx="8237520" cy="4541760"/>
        </p:xfrm>
        <a:graphic>
          <a:graphicData uri="http://schemas.openxmlformats.org/drawingml/2006/table">
            <a:tbl>
              <a:tblPr/>
              <a:tblGrid>
                <a:gridCol w="2947680"/>
                <a:gridCol w="528984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tion 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3 min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1000 cuvi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ez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 de cuvinte; nu mai multe de 3 poezii de acela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ş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 autor; nu mai mult de 5 poezii dintr-o singur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antolog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zica,versuri, vide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30 secun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tografii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ş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 Ilustratat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imagini de la un autor;Nu mai mult de  10% sau 15 imagini dintr-o singur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publica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ţ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turi de date nume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din 2500  c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â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uri sau celu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152280" y="4572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n lucrarea protejat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folosi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c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 mai pu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din urm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ar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28ED-1CC6-464B-BCC8-6C83196537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Carmen Negrea</cp:lastModifiedBy>
  <dcterms:modified xsi:type="dcterms:W3CDTF">2007-09-04T10:05:50Z</dcterms:modified>
  <cp:revision>309</cp:revision>
  <dc:subject/>
  <dc:title>Copyright Chaos</dc:title>
</cp:coreProperties>
</file>